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256-5E7C-4C50-97BE-D8879A7E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6E9-2748-4611-A385-BD18293D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9E3-DAAA-4BC7-BE4F-75B8B328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A02-57E7-4AC9-9DD1-6767996D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5F23-D85D-483D-8884-16CDB736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C63-D2F0-4527-8680-18EFA1D8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51C1-FA97-44F3-9D2E-4A62AF1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7B6-AA7A-47F9-BC83-5EDD0C01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806F-B1FA-4EC1-9761-027A3EE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DDFD-CE83-4C12-BD54-625C1F7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5335-7D69-4B7D-9BA9-49A8C491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077-24CD-4EAE-B7C7-6D764A82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4A6-0F58-4515-B44D-4DBC97B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DA21-1106-47B8-A836-5721890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EF1F-4216-4B72-95D8-1EF406E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0EA-8279-403C-8F6F-95799AD1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003-04A1-4195-98DC-E82F3425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2CF-B8CA-4FA7-88BE-1AC59FC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E74-D933-4DBE-92E3-0380D06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625-A400-4A2F-8AB2-38A833D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19A-70E6-4B34-A2BB-DD6688E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7B9-E5B4-46B0-948A-BD0D3A1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B38-48C7-4067-98E1-47435BC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273-C7D8-4BA5-9C57-7687FD23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6EEA-D063-426A-8000-275C4B1C0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C74-635D-4B7B-A9ED-FF8CC1E28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Remnant Shall Re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8, Lesson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. 64-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7,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iel’s Dreams and Vi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of events of the next three empires after Daniel’s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skeptics deny that Daniel could have written this in his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ievers in God, know that He Can and Did often tell the future – as only the true God ca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First Vision in 1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Year of Belshazz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7:1-14 – First Vision of Dan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ion-like beast – 1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ear-like beast –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opard-like beast –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10-horned beast -7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cient One –(God) -9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n – given an eternal kingdom -13-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First Vision in 1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Year of Belshazz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. 7:15-28 – The Interpretation of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our beasts in general – 15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ise: Babylon, Persia, Greece, &amp;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eplacement: vs.18 – God’s glorious king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ourth beast in particular – 19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iel’s confusion about it – 19-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’s clarification of it – 23-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iel’s reaction to it - 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Prayer and Third Vision of Daniel, in the First Year of Dariu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70 Years of Jeremiah’s prophecy are calculated by Daniel as almost over -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’s Prayer for Isra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Israel’s sin – 3-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Israel’s suffering – 12-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ing forgiveness and restoration -15-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Prayer and Third Vision of Daniel, in the First Year of Dariu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iel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70 Years of Jeremiah’s prophecy are calculated by Daniel as almost over -1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briel helps Daniel See A Future Involv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building of Jerusalem -9: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ing Messiah, His Crucifixion 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 Permanent, Terrible End to Jerusalem -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22:26Z</dcterms:created>
  <dc:creator> Tab Vines</dc:creator>
  <dc:description/>
  <dc:language>en-US</dc:language>
  <cp:lastModifiedBy> Tab Vines</cp:lastModifiedBy>
  <dcterms:modified xsi:type="dcterms:W3CDTF">2006-01-28T18:17:59Z</dcterms:modified>
  <cp:revision>2</cp:revision>
  <dc:subject/>
  <dc:title>A Remnant Shall Return</dc:title>
</cp:coreProperties>
</file>